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462-2193-4B54-978E-2FD188B9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526-FA94-44E9-BFA4-37ADF43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69D-BBC8-4DB8-8C3B-7EA770AF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538-2180-4CC7-BFCA-AC2BFF0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808-AEC1-4E70-A8A2-43BA6EBF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4515-CF54-4D16-916F-36019F5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155-5432-4685-9383-5A7F340A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3901-8A79-49AE-B804-D0D3BE9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BA61-9ECF-466B-BAF2-C38CE409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A23C-08B6-4C1C-8856-C5046E5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24E9-B5B9-4917-9968-47D898AA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0A3-F241-4A54-8AFA-B678AE8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C511-24C4-4E64-90D8-30C11868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5FA8-3D82-4203-8FBC-6EB1A0C9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F0DB-7BCE-4DC1-9F5A-180FA990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5D85-D9AF-4436-9933-5E2B2E33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A74A-9153-463E-82BB-7141E47C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8AA62-0D4E-493D-B3C0-31D6B25E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8E0AC-81AB-4242-ADAF-BEABCC1B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B327A-D3A8-4175-9352-650D8E1B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C1660-D02E-4A9E-8279-734F40C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97820-871D-4736-955A-F523A873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674-7F2F-476C-8E31-C73C655B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879BB-4597-4735-B28F-D6DB54EA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307CE-928A-430D-A89C-91A31E01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B8EC2-C1F8-4E3E-93C4-9F359729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65909-54AC-4E26-BA9D-280FED8F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DC5A8-0A8E-4173-9C02-D7E154A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3F5AD-14D0-409D-BDA8-AF66FCDD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8B03C-AF99-4598-A07F-F4AC11EA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609C-1BA4-43B7-8DE9-3CBE7DB4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3629-A2C2-411F-BDFC-05C2C77C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38E4-E45D-4130-A4F3-219BAE2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FDE-4786-42A4-9128-DF4D73AD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D4F6-F267-41A4-BC68-32D01C4C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34F0-BC08-4E4A-BC74-13E67B02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E478-8936-4EE6-9BCF-1B1DCAF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71F6-1E40-4C3C-8B83-0E6EE6C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F9E7E-C7A9-4C1F-BEB3-5C8CB065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EFEA-B9D2-4A77-A26B-D2AFB4D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53445-2423-49EF-BCC8-72E6C76F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CABEF-EBB3-4755-AAA1-0599BDE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82D5-13CD-441C-BCC0-75E3A64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96145-F8DE-4760-B821-9AEFC8E9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369-2909-43B3-ACFF-44EBEE7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C4314-6521-455E-8900-75158629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1FF30-B86F-4B6C-B91D-8EF1444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22CF8-6F30-454F-988C-0C16757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34608-78C0-401E-A17A-BD90517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96CB32-8B66-459D-8C38-DF38651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7368F-7474-42A2-A8D2-DCD4EAB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C8758-07B2-4792-96FD-E52BC7D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AAC2B-EF77-4D88-BAF1-4CDC6247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9BEDA-4439-418B-900A-B7CB4466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C4155-21A6-418F-9F39-E06FEC61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542-5918-44AF-AF89-811F681F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3EFA0-5F55-46E4-A3D6-E0E2A89B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9D44D-EA37-4B02-9144-DCE1CAF8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8944D-6694-4084-8ECF-57C50CB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122C0-0469-4090-A7AD-39FEC355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787A0-71FC-4876-9E34-CF90B649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6DF00-FAFC-4EEF-999B-7D490C9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C86DD-2FB2-43AE-A553-278419EC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9B52D-3FEA-469D-BA1A-B94C1686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25DE8-7454-4881-A108-E24AFB3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C541F-0B9D-40DD-ADCB-2C6B80F0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66F-3A1F-45DC-8099-7AFE16D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2A4BA-1BD4-46DC-B140-BCF68165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A2B96-29AC-487F-B016-E419C882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39209B-420A-42ED-AA63-2CE1794E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AD78E-DF20-49D5-8598-851DAD6F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5CBC3-4300-4505-A4EB-AA482235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A62F6-FCBD-4E34-8C98-509AEB1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2396C-19F0-4FAB-AB4F-F41D581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E167D-77BF-47A9-B076-342AE8AF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2FD61-686B-4297-9634-4AA1A91A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27A97-47F4-479F-8CF3-D73D44B9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6D7F-E8FC-4741-935B-2C0FAFC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78C2F-460D-4020-A4E0-31E5CE8C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AD336-8C39-4BAE-ADF3-9556A6F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EABD4-D031-4285-BE2C-AB863691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53A33-8CC1-4099-BD28-E9E01EF3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FF0024-F351-4316-A665-A73BB9E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A14-049B-48F6-86AD-02D23DB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42B5-9F60-42B9-B91E-E77D785485E7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30F4-4EC9-4B98-8B63-FE223CBD32A2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50D3-81FB-479B-893C-8CBDF6D9CAA5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2E22-7D4B-4DA9-9368-6DB784BCDE7E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F028-A614-4C59-8AC5-FFCAE914F432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2AF-8A6E-416A-B249-5393ADC7DE02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D173-EEB0-4D79-8F44-89DDD12A081E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11"/>
          <p:cNvSpPr/>
          <p:nvPr/>
        </p:nvSpPr>
        <p:spPr>
          <a:xfrm>
            <a:off x="2786040" y="1857240"/>
            <a:ext cx="3714840" cy="428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4" descr=""/>
          <p:cNvPicPr/>
          <p:nvPr/>
        </p:nvPicPr>
        <p:blipFill>
          <a:blip r:embed="rId2"/>
          <a:stretch/>
        </p:blipFill>
        <p:spPr>
          <a:xfrm>
            <a:off x="1225440" y="176040"/>
            <a:ext cx="8120160" cy="11829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"/>
          <p:cNvSpPr/>
          <p:nvPr/>
        </p:nvSpPr>
        <p:spPr>
          <a:xfrm>
            <a:off x="3571920" y="471492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3571920" y="4286160"/>
            <a:ext cx="20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3571920" y="385776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Front ben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3571920" y="342900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3500280" y="221472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‘Cross the flo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3571920" y="2643120"/>
            <a:ext cx="16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8" action="ppaction://hlinksldjump"/>
              </a:rPr>
              <a:t>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571920" y="3000240"/>
            <a:ext cx="15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Cha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3554640" y="51436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Qu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2214360"/>
            <a:ext cx="746748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The Queen is Australia’s head of stat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Rectangle 3" descr=""/>
          <p:cNvPicPr/>
          <p:nvPr/>
        </p:nvPicPr>
        <p:blipFill>
          <a:blip r:embed="rId1"/>
          <a:stretch/>
        </p:blipFill>
        <p:spPr>
          <a:xfrm>
            <a:off x="658800" y="390600"/>
            <a:ext cx="7205760" cy="11095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57168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End slide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3"/>
          <p:cNvSpPr/>
          <p:nvPr/>
        </p:nvSpPr>
        <p:spPr>
          <a:xfrm>
            <a:off x="428760" y="27147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An independent is a not a member of a political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Rectangle 4" descr=""/>
          <p:cNvPicPr/>
          <p:nvPr/>
        </p:nvPicPr>
        <p:blipFill>
          <a:blip r:embed="rId1"/>
          <a:stretch/>
        </p:blipFill>
        <p:spPr>
          <a:xfrm>
            <a:off x="-42840" y="749160"/>
            <a:ext cx="9163080" cy="1109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428760" y="59292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3" descr=""/>
          <p:cNvPicPr/>
          <p:nvPr/>
        </p:nvPicPr>
        <p:blipFill>
          <a:blip r:embed="rId1"/>
          <a:stretch/>
        </p:blipFill>
        <p:spPr>
          <a:xfrm>
            <a:off x="-317520" y="176040"/>
            <a:ext cx="9077400" cy="11098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785880" y="207180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entury Schoolbook"/>
              </a:rPr>
              <a:t>Government means to rule, to administer or to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1071720" y="4286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3" descr=""/>
          <p:cNvPicPr/>
          <p:nvPr/>
        </p:nvPicPr>
        <p:blipFill>
          <a:blip r:embed="rId1"/>
          <a:stretch/>
        </p:blipFill>
        <p:spPr>
          <a:xfrm>
            <a:off x="-231840" y="249120"/>
            <a:ext cx="9455040" cy="11098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571680" y="21430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 frontbencher is a member of parliament who is a minister or a shadow minister . Frontbenchers sit at the front bench of each cha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49291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3" descr=""/>
          <p:cNvPicPr/>
          <p:nvPr/>
        </p:nvPicPr>
        <p:blipFill>
          <a:blip r:embed="rId1"/>
          <a:stretch/>
        </p:blipFill>
        <p:spPr>
          <a:xfrm>
            <a:off x="390600" y="176040"/>
            <a:ext cx="7729560" cy="1109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785880" y="2286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n election is where a person or government is chosen by vo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6429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3" descr=""/>
          <p:cNvPicPr/>
          <p:nvPr/>
        </p:nvPicPr>
        <p:blipFill>
          <a:blip r:embed="rId1"/>
          <a:stretch/>
        </p:blipFill>
        <p:spPr>
          <a:xfrm>
            <a:off x="19080" y="353880"/>
            <a:ext cx="8912160" cy="9874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4"/>
          <p:cNvSpPr/>
          <p:nvPr/>
        </p:nvSpPr>
        <p:spPr>
          <a:xfrm>
            <a:off x="714240" y="200016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To cross the floor it is to vote against your party in a way that involves moving  from one side of the chamber to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50007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3" descr=""/>
          <p:cNvPicPr/>
          <p:nvPr/>
        </p:nvPicPr>
        <p:blipFill>
          <a:blip r:embed="rId1"/>
          <a:stretch/>
        </p:blipFill>
        <p:spPr>
          <a:xfrm>
            <a:off x="-30240" y="176040"/>
            <a:ext cx="9113760" cy="11098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/>
          <p:cNvSpPr/>
          <p:nvPr/>
        </p:nvSpPr>
        <p:spPr>
          <a:xfrm>
            <a:off x="500040" y="1857240"/>
            <a:ext cx="7572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 constitution is a set of rules by which a country or state is run</a:t>
            </a:r>
            <a:r>
              <a:rPr b="0" lang="en-A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928800" y="4929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3" descr=""/>
          <p:cNvPicPr/>
          <p:nvPr/>
        </p:nvPicPr>
        <p:blipFill>
          <a:blip r:embed="rId1"/>
          <a:stretch/>
        </p:blipFill>
        <p:spPr>
          <a:xfrm>
            <a:off x="676440" y="603360"/>
            <a:ext cx="8022960" cy="11095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285920" y="2357280"/>
            <a:ext cx="657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d0d0d"/>
                </a:solidFill>
                <a:latin typeface="Century Schoolbook"/>
              </a:rPr>
              <a:t>The coalition is the joining together of  parliamentary parties to form a government or an op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1357200" y="55720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57120" y="1928880"/>
            <a:ext cx="74678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A chamber is meeting room of a house of parliam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Rectangle 3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7894800" cy="1108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642960" y="5715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8:11Z</dcterms:created>
  <dc:creator>Education</dc:creator>
  <dc:description/>
  <dc:language>en-US</dc:language>
  <cp:lastModifiedBy>Education</cp:lastModifiedBy>
  <dcterms:modified xsi:type="dcterms:W3CDTF">2009-10-27T22:52:01Z</dcterms:modified>
  <cp:revision>12</cp:revision>
  <dc:subject/>
  <dc:title>Slide 1</dc:title>
</cp:coreProperties>
</file>